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.png" ContentType="image/png"/>
  <Override PartName="/ppt/media/laugh-evil.wav" ContentType="audio/x-wav"/>
  <Override PartName="/ppt/media/laser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applause.wav" ContentType="audio/x-wav"/>
  <Override PartName="/ppt/media/image10.png" ContentType="image/png"/>
  <Override PartName="/ppt/media/image8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120-28EF-46BD-AB66-0FA347C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A2C-09D3-4D79-9076-4EFD46AF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A22-DD76-49D3-97CF-93D90805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5B0-87D2-4FF1-AFC8-9F82BAA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EA6-16CD-4ADA-B2F8-B47A61A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9AC-11FC-4869-B497-3FB7D35A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830-6BFB-4CC7-A19A-D56D105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66B-B292-4878-A2C2-965D916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CCB-1BE7-4992-A308-16D3EAD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B4B-52DF-40A8-BBD6-B011D287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F93-0A31-413B-9B2C-F524CAF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F7B-77EC-43C3-B29D-D356BEC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169-B06A-48EF-9CED-A919D80D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laugh-evil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12920" y="228600"/>
            <a:ext cx="675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Let’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Put </a:t>
            </a:r>
            <a:r>
              <a:rPr b="1" lang="en-US" sz="8000" spc="-1" strike="noStrike">
                <a:solidFill>
                  <a:srgbClr val="cc3300"/>
                </a:solidFill>
                <a:latin typeface="Chiller"/>
              </a:rPr>
              <a:t>an end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sentence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4952880" y="49942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My Documents\My Pictures\people\alien1.gif"/>
          <p:cNvPicPr/>
          <p:nvPr/>
        </p:nvPicPr>
        <p:blipFill>
          <a:blip r:embed="rId2"/>
          <a:stretch/>
        </p:blipFill>
        <p:spPr>
          <a:xfrm>
            <a:off x="1143000" y="45720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My Documents\My Pictures\people\alien1.gif"/>
          <p:cNvPicPr/>
          <p:nvPr/>
        </p:nvPicPr>
        <p:blipFill>
          <a:blip r:embed="rId3"/>
          <a:stretch/>
        </p:blipFill>
        <p:spPr>
          <a:xfrm>
            <a:off x="304920" y="380880"/>
            <a:ext cx="188568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My Documents\My Pictures\people\alien1.gif"/>
          <p:cNvPicPr/>
          <p:nvPr/>
        </p:nvPicPr>
        <p:blipFill>
          <a:blip r:embed="rId4"/>
          <a:stretch/>
        </p:blipFill>
        <p:spPr>
          <a:xfrm>
            <a:off x="7010280" y="31240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My Documents\My Pictures\people\alien1.gif"/>
          <p:cNvPicPr/>
          <p:nvPr/>
        </p:nvPicPr>
        <p:blipFill>
          <a:blip r:embed="rId5"/>
          <a:stretch/>
        </p:blipFill>
        <p:spPr>
          <a:xfrm>
            <a:off x="7010280" y="4572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My Documents\My Pictures\people\alien1.gif"/>
          <p:cNvPicPr/>
          <p:nvPr/>
        </p:nvPicPr>
        <p:blipFill>
          <a:blip r:embed="rId6"/>
          <a:stretch/>
        </p:blipFill>
        <p:spPr>
          <a:xfrm>
            <a:off x="533520" y="236232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354528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28800" y="3951360"/>
            <a:ext cx="69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1143000" y="914400"/>
            <a:ext cx="1066680" cy="1143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63680" y="586728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statement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16120" y="83808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10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3600" y="3809880"/>
            <a:ext cx="84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96640" y="55627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shows excitement, so it get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lama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62120" y="838080"/>
            <a:ext cx="59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tree 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all on th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27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9640" y="3809880"/>
            <a:ext cx="78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 tree is going to 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n the house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2320" y="60958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question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09480" y="838080"/>
            <a:ext cx="667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44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80200" y="3809880"/>
            <a:ext cx="76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371600" y="1371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212840" y="571500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command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37760" y="304920"/>
            <a:ext cx="826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end mark comes at the END of a sentenc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s you know wh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C:\My Documents\My Pictures\items\stop.gif"/>
          <p:cNvPicPr/>
          <p:nvPr/>
        </p:nvPicPr>
        <p:blipFill>
          <a:blip r:embed="rId1"/>
          <a:stretch/>
        </p:blipFill>
        <p:spPr>
          <a:xfrm>
            <a:off x="4191120" y="1752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4136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76400" y="426708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a few more members of the punctuation fami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2895480" y="5181480"/>
            <a:ext cx="3200400" cy="1043280"/>
          </a:xfrm>
          <a:custGeom>
            <a:avLst/>
            <a:gdLst>
              <a:gd name="textAreaLeft" fmla="*/ 67320 w 3200400"/>
              <a:gd name="textAreaRight" fmla="*/ 3133080 w 32004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6245" h="21600">
                <a:moveTo>
                  <a:pt x="0" y="0"/>
                </a:moveTo>
                <a:lnTo>
                  <a:pt x="66245" y="0"/>
                </a:lnTo>
                <a:lnTo>
                  <a:pt x="66245" y="21600"/>
                </a:lnTo>
                <a:lnTo>
                  <a:pt x="0" y="21600"/>
                </a:lnTo>
                <a:close/>
              </a:path>
              <a:path fill="lightenLess" w="66245" h="21600">
                <a:moveTo>
                  <a:pt x="0" y="0"/>
                </a:moveTo>
                <a:lnTo>
                  <a:pt x="66245" y="0"/>
                </a:lnTo>
                <a:lnTo>
                  <a:pt x="64846" y="1400"/>
                </a:lnTo>
                <a:lnTo>
                  <a:pt x="1400" y="1400"/>
                </a:lnTo>
                <a:close/>
              </a:path>
              <a:path fill="darken" w="66245" h="21600">
                <a:moveTo>
                  <a:pt x="66245" y="0"/>
                </a:moveTo>
                <a:lnTo>
                  <a:pt x="66245" y="21600"/>
                </a:lnTo>
                <a:lnTo>
                  <a:pt x="64846" y="20200"/>
                </a:lnTo>
                <a:lnTo>
                  <a:pt x="64846" y="1400"/>
                </a:lnTo>
                <a:close/>
              </a:path>
              <a:path fill="darkenLess" w="66245" h="21600">
                <a:moveTo>
                  <a:pt x="66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46" y="20200"/>
                </a:lnTo>
                <a:close/>
              </a:path>
              <a:path fill="lighten" w="66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mee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05440" y="422280"/>
            <a:ext cx="67950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de with two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for time, and it comes before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need the following items from the sto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anas, grapes, watermelon, and le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553080" y="106668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6629400" y="2438280"/>
            <a:ext cx="914400" cy="91440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C:\My Documents\My Pictures\food\foodline.gif"/>
          <p:cNvPicPr/>
          <p:nvPr/>
        </p:nvPicPr>
        <p:blipFill>
          <a:blip r:embed="rId1"/>
          <a:stretch/>
        </p:blipFill>
        <p:spPr>
          <a:xfrm>
            <a:off x="2438280" y="5334120"/>
            <a:ext cx="4000680" cy="8794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9"/>
          <p:cNvSpPr/>
          <p:nvPr/>
        </p:nvSpPr>
        <p:spPr>
          <a:xfrm>
            <a:off x="7467480" y="5105520"/>
            <a:ext cx="1043280" cy="142380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423800"/>
              <a:gd name="textAreaBottom" fmla="*/ 1356480 h 1423800"/>
            </a:gdLst>
            <a:ahLst/>
            <a:rect l="textAreaLeft" t="textAreaTop" r="textAreaRight" b="textAreaBottom"/>
            <a:pathLst>
              <a:path w="21600" h="29476">
                <a:moveTo>
                  <a:pt x="0" y="0"/>
                </a:moveTo>
                <a:lnTo>
                  <a:pt x="21600" y="0"/>
                </a:lnTo>
                <a:lnTo>
                  <a:pt x="21600" y="29476"/>
                </a:lnTo>
                <a:lnTo>
                  <a:pt x="0" y="29476"/>
                </a:lnTo>
                <a:close/>
              </a:path>
              <a:path fill="lightenLess" w="21600" h="29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76">
                <a:moveTo>
                  <a:pt x="21600" y="0"/>
                </a:moveTo>
                <a:lnTo>
                  <a:pt x="21600" y="29476"/>
                </a:lnTo>
                <a:lnTo>
                  <a:pt x="20200" y="28076"/>
                </a:lnTo>
                <a:lnTo>
                  <a:pt x="20200" y="1400"/>
                </a:lnTo>
                <a:close/>
              </a:path>
              <a:path fill="darkenLess" w="21600" h="29476">
                <a:moveTo>
                  <a:pt x="21600" y="29476"/>
                </a:moveTo>
                <a:lnTo>
                  <a:pt x="0" y="29476"/>
                </a:lnTo>
                <a:lnTo>
                  <a:pt x="1400" y="28076"/>
                </a:lnTo>
                <a:lnTo>
                  <a:pt x="20200" y="28076"/>
                </a:lnTo>
                <a:close/>
              </a:path>
              <a:path fill="lighten" w="21600" h="29476">
                <a:moveTo>
                  <a:pt x="0" y="29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7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62840" y="457200"/>
            <a:ext cx="5362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927760" y="6811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128600" y="2819520"/>
            <a:ext cx="5813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a is used to separate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favorite animals are giraffe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i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lso used between the date and th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 is December 2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4680" y="5603760"/>
            <a:ext cx="73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a can also tell you where to pause in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9" descr="C:\My Documents\My Pictures\creatures\cats.gif"/>
          <p:cNvPicPr/>
          <p:nvPr/>
        </p:nvPicPr>
        <p:blipFill>
          <a:blip r:embed="rId1"/>
          <a:stretch/>
        </p:blipFill>
        <p:spPr>
          <a:xfrm>
            <a:off x="457200" y="1447920"/>
            <a:ext cx="1900080" cy="128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My Documents\My Pictures\creatures\Giraffe4.jpg"/>
          <p:cNvPicPr/>
          <p:nvPr/>
        </p:nvPicPr>
        <p:blipFill>
          <a:blip r:embed="rId2"/>
          <a:stretch/>
        </p:blipFill>
        <p:spPr>
          <a:xfrm>
            <a:off x="7620120" y="2438280"/>
            <a:ext cx="122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5400" y="468360"/>
            <a:ext cx="428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ctuation rap is a game we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’s fun to do, and we can learn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the period, the period; he’s not hard to underst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at the end of a sentence 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marks abbreviations, shortens words that are 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forget the period, he’s small but str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 mark, question mark, what did you sa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a question, that’s the only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w! Awesome! Rad! Hurra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clamation point is next; he’s got something to s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something loud, he’s excited to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use him too much, he won’t be special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ma is next, he is used a 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an separate a list of some groceries you 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in the middle of the year and th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ween two adjectives, or a city and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join two sentences with a “but” or an “an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remember the comma, he will give you a h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one more place that our comma has be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omes after a clause that tells you wh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714920" y="685800"/>
            <a:ext cx="41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sh-the dash-he’s here, then he’s g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need to make a pause, then you bring him a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tion marks are nosey.  They have no reserv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ut hanging around in any convers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must put quotes around a thing that is sa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a poem or a story you’ve r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n likes to show a list that will co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brother, the “semi” will not be out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micolon joins two sentences with no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o many commas, he can take a stan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C:\My Documents\My Pictures\english\punctuation.gif"/>
          <p:cNvPicPr/>
          <p:nvPr/>
        </p:nvPicPr>
        <p:blipFill>
          <a:blip r:embed="rId1"/>
          <a:stretch/>
        </p:blipFill>
        <p:spPr>
          <a:xfrm>
            <a:off x="5105520" y="3886200"/>
            <a:ext cx="281124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412800" y="41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 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689200" y="61452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Mission Accomplish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43800" y="172260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e ended those pesky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C:\My Documents\My Pictures\creatures\alien1.gif"/>
          <p:cNvPicPr/>
          <p:nvPr/>
        </p:nvPicPr>
        <p:blipFill>
          <a:blip r:embed="rId1"/>
          <a:stretch/>
        </p:blipFill>
        <p:spPr>
          <a:xfrm>
            <a:off x="7010280" y="495288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My Documents\My Pictures\creatures\alien.gif"/>
          <p:cNvPicPr/>
          <p:nvPr/>
        </p:nvPicPr>
        <p:blipFill>
          <a:blip r:embed="rId2"/>
          <a:stretch/>
        </p:blipFill>
        <p:spPr>
          <a:xfrm>
            <a:off x="914400" y="3886200"/>
            <a:ext cx="1714680" cy="1074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403920" y="568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empus Sans ITC"/>
              </a:rPr>
              <a:t>You did great, earthling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C:\My Documents\My Pictures\science\Space &amp; Space Travel\Planets 1.Jpg"/>
          <p:cNvPicPr/>
          <p:nvPr/>
        </p:nvPicPr>
        <p:blipFill>
          <a:blip r:embed="rId3"/>
          <a:stretch/>
        </p:blipFill>
        <p:spPr>
          <a:xfrm>
            <a:off x="3124080" y="2362320"/>
            <a:ext cx="3835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66680" y="914400"/>
            <a:ext cx="47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is an end m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36840" y="1604880"/>
            <a:ext cx="71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nd mark is also known as punctuation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s at the end of a sentence.  It lets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o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16280" y="3886200"/>
            <a:ext cx="69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 different ki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end mark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4419720" y="457200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585480" y="4800600"/>
            <a:ext cx="252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if you d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" action="ppaction://hlinkshowjump?jump=nextslide"/>
          </p:cNvPr>
          <p:cNvSpPr/>
          <p:nvPr/>
        </p:nvSpPr>
        <p:spPr>
          <a:xfrm>
            <a:off x="70102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304920" y="4191120"/>
            <a:ext cx="1295280" cy="2084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409040" y="495288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clamation ma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ws excitement or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12240" y="583236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a huge do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304920" y="259092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22880" y="2941560"/>
            <a:ext cx="75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something is being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133000" y="36576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going to lun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9"/>
          <p:cNvSpPr/>
          <p:nvPr/>
        </p:nvSpPr>
        <p:spPr>
          <a:xfrm>
            <a:off x="609480" y="76212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674000" y="533520"/>
            <a:ext cx="75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most famous end mark.  It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the end of statements and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432880" y="1371600"/>
            <a:ext cx="45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aining toda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rupt while I am talk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>
            <a:hlinkClick r:id="" action="ppaction://hlinkshowjump?jump=nextslide"/>
          </p:cNvPr>
          <p:cNvSpPr/>
          <p:nvPr/>
        </p:nvSpPr>
        <p:spPr>
          <a:xfrm>
            <a:off x="7620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5">
            <a:hlinkClick r:id="rId3" action="ppaction://hlinksldjump"/>
          </p:cNvPr>
          <p:cNvSpPr/>
          <p:nvPr/>
        </p:nvSpPr>
        <p:spPr>
          <a:xfrm>
            <a:off x="73152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65120" y="30492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is used for more than just an end 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"/>
          <p:cNvSpPr/>
          <p:nvPr/>
        </p:nvSpPr>
        <p:spPr>
          <a:xfrm>
            <a:off x="380880" y="457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04920" y="5715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510640" y="1828800"/>
            <a:ext cx="3786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d in abbrev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90 College R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c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6">
            <a:hlinkClick r:id="" action="ppaction://hlinkshowjump?jump=previousslide"/>
          </p:cNvPr>
          <p:cNvSpPr/>
          <p:nvPr/>
        </p:nvSpPr>
        <p:spPr>
          <a:xfrm>
            <a:off x="4191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14240" y="1143000"/>
            <a:ext cx="59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My Documents\My Pictures\english\question-danc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" action="ppaction://hlinkshowjump?jump=nextslide"/>
          </p:cNvPr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My Documents\My Pictures\english\question-dance.gif"/>
          <p:cNvPicPr/>
          <p:nvPr/>
        </p:nvPicPr>
        <p:blipFill>
          <a:blip r:embed="rId1"/>
          <a:stretch/>
        </p:blipFill>
        <p:spPr>
          <a:xfrm>
            <a:off x="1828800" y="685800"/>
            <a:ext cx="1600200" cy="1954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10160" y="3951360"/>
            <a:ext cx="69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84960" y="548640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question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576440" y="1143000"/>
            <a:ext cx="607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93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30:37Z</dcterms:created>
  <dc:creator>Jefferson County Schools </dc:creator>
  <dc:description/>
  <dc:language>en-US</dc:language>
  <cp:lastModifiedBy>... ...</cp:lastModifiedBy>
  <dcterms:modified xsi:type="dcterms:W3CDTF">2011-07-08T02:14:07Z</dcterms:modified>
  <cp:revision>9</cp:revision>
  <dc:subject/>
  <dc:title>PowerPoint Presentation</dc:title>
</cp:coreProperties>
</file>